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9.gif" ContentType="image/gif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1C5D-ABFA-4D66-9AB9-FB33759B9AA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30C8-1C54-4B5F-85C5-C15344F25A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508720" y="47628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六      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4809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亿以上数的读、写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1736640" y="2421000"/>
            <a:ext cx="6939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数位和计数单位一一对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36"/>
          <p:cNvSpPr/>
          <p:nvPr/>
        </p:nvSpPr>
        <p:spPr>
          <a:xfrm>
            <a:off x="819000" y="1728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90403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它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添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才能变成三十亿零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3280500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面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亿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6"/>
          <p:cNvSpPr/>
          <p:nvPr/>
        </p:nvSpPr>
        <p:spPr>
          <a:xfrm>
            <a:off x="3624120" y="2303640"/>
            <a:ext cx="30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九亿零四百零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1674720" y="2835360"/>
            <a:ext cx="9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3301920" y="2871720"/>
            <a:ext cx="9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百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4890960" y="2847960"/>
            <a:ext cx="9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6"/>
          <p:cNvSpPr/>
          <p:nvPr/>
        </p:nvSpPr>
        <p:spPr>
          <a:xfrm>
            <a:off x="3689280" y="34052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2"/>
          <p:cNvSpPr/>
          <p:nvPr/>
        </p:nvSpPr>
        <p:spPr>
          <a:xfrm>
            <a:off x="4027320" y="3933720"/>
            <a:ext cx="7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3"/>
          <p:cNvSpPr/>
          <p:nvPr/>
        </p:nvSpPr>
        <p:spPr>
          <a:xfrm>
            <a:off x="5970600" y="3933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6"/>
          <p:cNvSpPr/>
          <p:nvPr/>
        </p:nvSpPr>
        <p:spPr>
          <a:xfrm>
            <a:off x="819000" y="1728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十亿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十万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十组成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含有三级，这个数最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最大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3224160" y="2284560"/>
            <a:ext cx="19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008000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2382840" y="2854440"/>
            <a:ext cx="38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八十亿零八十万零八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2484360" y="3971880"/>
            <a:ext cx="19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2104920" y="4508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99999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6"/>
          <p:cNvSpPr/>
          <p:nvPr/>
        </p:nvSpPr>
        <p:spPr>
          <a:xfrm>
            <a:off x="819000" y="1728720"/>
            <a:ext cx="71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五个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十个数字组成符合要求的十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的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的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03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矩形 8"/>
          <p:cNvSpPr/>
          <p:nvPr/>
        </p:nvSpPr>
        <p:spPr>
          <a:xfrm>
            <a:off x="2817720" y="285264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4321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0"/>
          <p:cNvSpPr/>
          <p:nvPr/>
        </p:nvSpPr>
        <p:spPr>
          <a:xfrm>
            <a:off x="2840040" y="392112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00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6"/>
          <p:cNvSpPr/>
          <p:nvPr/>
        </p:nvSpPr>
        <p:spPr>
          <a:xfrm>
            <a:off x="819000" y="1728720"/>
            <a:ext cx="718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读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两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四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4140360" y="173196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4320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"/>
          <p:cNvSpPr/>
          <p:nvPr/>
        </p:nvSpPr>
        <p:spPr>
          <a:xfrm>
            <a:off x="4151160" y="2884320"/>
            <a:ext cx="18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43020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4140360" y="392904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4030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1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18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2:35:45Z</dcterms:modified>
  <cp:revision>3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